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32B2-697C-4E1C-A2CF-4662F77E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DA61-BF7A-4102-9977-4504059B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6208-BC50-4B27-9407-B88CB9A5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EECF-C970-4016-8736-0A43548B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9686-D3AC-41BA-AB20-42965F70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D896-434B-4C13-A7AB-A69BC62F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5935-7387-4310-9FF3-1448B7F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1092-EE97-4D7D-8236-4E68E8C4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B6EC-6F4B-46CD-A5CF-AD9830FE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70CE-D42F-4574-9AC0-CA7F587D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9EDF-C497-4BC4-A053-5E415BB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167B-0433-455E-A14C-88FE9ED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997-8505-4196-9C5D-53162BF9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1D94-F03E-4A01-AE0E-AA94B551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A216-83F9-40DD-9132-80BE6631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BF8C-897D-45BA-964C-4DA72B77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911D-5D37-461F-A592-81B0E3A5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9BD1-11DA-4D1A-AB76-0BDF985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2543-CDF2-4A7E-A862-368FABA4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33BD-A079-4F29-BA44-CDE16640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0EC4-1E72-4519-AAFA-1F93BCD6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7F62-C19C-4BD1-A365-B355677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5412-D613-4869-847B-6B6CE7B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E4EA-0C18-4E0B-A587-05FC4BDC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2E74-C7BB-4D96-8EB3-2210108C1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1D77-5C3E-4707-8B1C-CC23BF77C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41:06Z</dcterms:modified>
  <cp:revision>5</cp:revision>
  <dc:subject/>
  <dc:title>Petrolul mişcă omenirea</dc:title>
</cp:coreProperties>
</file>